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0680" y="0"/>
            <a:ext cx="365040" cy="68454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9880"/>
            <a:ext cx="10274400" cy="36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9040" y="0"/>
            <a:ext cx="363600" cy="68454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72960"/>
            <a:ext cx="10274400" cy="36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0680" y="0"/>
            <a:ext cx="365040" cy="846000"/>
          </a:xfrm>
          <a:prstGeom prst="rect">
            <a:avLst/>
          </a:prstGeom>
          <a:solidFill>
            <a:srgbClr val="f2f2f2"/>
          </a:solidFill>
          <a:ln w="12600">
            <a:solidFill>
              <a:srgbClr val="dadad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494560" y="6573960"/>
            <a:ext cx="133524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OSPF - QOSR BoF  </a:t>
            </a:r>
            <a:fld id="{2F0063EE-B70A-4F18-997A-043241757235}" type="slidenum"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654960" y="5931000"/>
            <a:ext cx="318780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10274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0280" y="2286000"/>
            <a:ext cx="8686800" cy="17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OSPF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Extensions to OSFP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Path First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ic S. Craw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y Network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@baynet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are Resource Reserved Advertisement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save tree state some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dding new members and knowing what branches are currentl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new resource available advertisements don’t affect paths currently in use (AKA “Stepping on your own Shadow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l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s can be sent out too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 Use watermarks and/or resource reserved &gt; resource available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ed Advertisements are flooded for every link on source-&gt;destination path generated on receipt of RE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 Explicit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68560" y="285840"/>
            <a:ext cx="8755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ing (ER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68560" y="1028880"/>
            <a:ext cx="878220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outer, usually the source router, computes the QoS route path from source-&gt;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oute computation is passed down the tree using opaque LSAs (Explicit Route Advertisements, E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As encode the route in such a way that no recomputation is necessary for each router along the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can be broken up into multiple ERAs to avoid MTU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ed Advertisements need only be sent back to the computing/source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ushing ERAs are used to remove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68560" y="190440"/>
            <a:ext cx="87552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ing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16040" y="20304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2760" y="13460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58880" y="29638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125880" y="29448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583080" y="3954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1219320" y="3841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238560" y="48895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4133880" y="487044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0504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66960" y="25146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57680" y="251460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7188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40976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43480" y="34290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390840" y="44197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00680" y="4419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94120" y="13939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9000" y="428940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700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844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22920" y="1317600"/>
            <a:ext cx="52736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RCVRs 1,2,&amp;3 have joined group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RSVP PATH Message sent  from sender to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R1 Computes QoS Path to  RCVRs 1,2,&amp;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 Link L1 does not have adequate resources for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d on RSVP T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Tree is computed using L2, L3, and 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R1 sends ERA to R3 with subtree of R2 and 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R3 installs ERA state and sends ERAs to R2 and 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Process is repeated on R2 and R4 install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 Rcvrs send RESV message back toward send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rving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 Routers send Resource reserved advertisements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l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ndicating the resources used for the Source, Gr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94120" y="21556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7972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60360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060800" y="42130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7972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4640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60600" y="29941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79920" y="360360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SPF/MOSPF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Reservation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Route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rder Router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 Comput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LSA (RES-L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422360"/>
            <a:ext cx="5537160" cy="4457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6880320" y="1347840"/>
            <a:ext cx="3292560" cy="33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oded through Ar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ken Bucket parameter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single precis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loating point (IntServ st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 Delay is used in pla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OS 0 metric for Q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oute calcul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expanded 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ther servi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Reservation Advertisement (R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346800" y="2239920"/>
            <a:ext cx="36734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“Area Local” without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“No Flooding”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“Link Local” with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and Destination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P source and destin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n Flag indicates whet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oute pinning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ques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icit Route Advertisement (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30800" y="1352520"/>
            <a:ext cx="396540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Flooding”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 header indicates source-&gt; destinati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 body encodes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just Offset is used to avoid recomputing offsets for subsequent 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ld offset indicates next child in fo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SA Age = MAXAGE indicates flushing 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79640" y="1523880"/>
            <a:ext cx="491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rder Router Advertisement (DA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362640" y="1581120"/>
            <a:ext cx="354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es to “downstream” areas how to root a tree (which area border router to use) for source-&gt;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ded to all downstream areas from borders that receive flow without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only to border routers on path with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447920"/>
            <a:ext cx="5308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e Computatio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y Change - all routes recomputed (conventional or Q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use RRAs to determine resources used by current path and pi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MOSPF Group Membership L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ES-LSAs - all QoS route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RAs - all QoS routes related to the RRA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DABRAs- all QoS routes related to the DABRAs re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main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82680" y="3430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cas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3600" y="15238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ng members/branches can be tricky so you don’t “avoid your own shad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know where current distribution tre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rder router issues are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ough information to preven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too much to keep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may be very different for shared tre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domain solutions will be very interest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sible RSVP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 pinning flag so receivers can request a “pinned”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le length of time to pin a ro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ion that a RESV differs from a PATH to help determine if recalcul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 can possible suffer from route loops if packets “fall off” the QoS computed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eed to tag or mark packets on QoS paths to note different treatment (TOS bits or Flow I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ackets “fall off” QoS path mark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think through other RSVP reservation styles (SE &amp; 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ore experience, simulation, and re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68560" y="1333440"/>
            <a:ext cx="878220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ustomer asked us to combine MOSPF and RSVP to provide Quality of Service routing in a W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N was mostly T-1 links but sufficiently redundant that there were multiple paths between multicast sources and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pplication closely matched the “Cable TV” type of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receivers coming and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 receiver JOIN times needed (&lt; 2 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49480" y="2667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14640" y="2610000"/>
            <a:ext cx="419040" cy="1542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77280" y="2743200"/>
            <a:ext cx="419040" cy="15429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8800" y="4705200"/>
            <a:ext cx="1962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81560" y="1752480"/>
            <a:ext cx="1962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9120" y="311616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64200" y="23544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59720" y="32688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40160" y="39924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9239400" y="264168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239400" y="32702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9239400" y="389880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467000" y="25653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1467000" y="3193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1467000" y="38228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4343400" y="12891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5124600" y="127008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5905440" y="125100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514760" y="53276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5295960" y="530856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6076800" y="528948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05640" y="2616120"/>
            <a:ext cx="2219760" cy="679680"/>
          </a:xfrm>
          <a:custGeom>
            <a:avLst/>
            <a:gdLst/>
            <a:ahLst/>
            <a:rect l="0" t="0" r="r" b="b"/>
            <a:pathLst>
              <a:path fill="none" w="6166" h="1888">
                <a:moveTo>
                  <a:pt x="6166" y="1888"/>
                </a:moveTo>
                <a:lnTo>
                  <a:pt x="2871" y="740"/>
                </a:lnTo>
                <a:lnTo>
                  <a:pt x="3215" y="112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9320" y="3645000"/>
            <a:ext cx="2219760" cy="679680"/>
          </a:xfrm>
          <a:custGeom>
            <a:avLst/>
            <a:gdLst/>
            <a:ahLst/>
            <a:rect l="0" t="0" r="r" b="b"/>
            <a:pathLst>
              <a:path fill="none" w="6166" h="1888">
                <a:moveTo>
                  <a:pt x="6166" y="1888"/>
                </a:moveTo>
                <a:lnTo>
                  <a:pt x="2871" y="740"/>
                </a:lnTo>
                <a:lnTo>
                  <a:pt x="3215" y="112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09920" y="339084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29160" y="2895480"/>
            <a:ext cx="0" cy="10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2240" y="2563920"/>
            <a:ext cx="1991160" cy="560880"/>
          </a:xfrm>
          <a:custGeom>
            <a:avLst/>
            <a:gdLst/>
            <a:ahLst/>
            <a:rect l="0" t="0" r="r" b="b"/>
            <a:pathLst>
              <a:path fill="none" w="5531" h="1558">
                <a:moveTo>
                  <a:pt x="5531" y="0"/>
                </a:moveTo>
                <a:lnTo>
                  <a:pt x="2474" y="785"/>
                </a:lnTo>
                <a:lnTo>
                  <a:pt x="2977" y="790"/>
                </a:lnTo>
                <a:lnTo>
                  <a:pt x="0" y="155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3782880"/>
            <a:ext cx="1991160" cy="560880"/>
          </a:xfrm>
          <a:custGeom>
            <a:avLst/>
            <a:gdLst/>
            <a:ahLst/>
            <a:rect l="0" t="0" r="r" b="b"/>
            <a:pathLst>
              <a:path fill="none" w="5531" h="1558">
                <a:moveTo>
                  <a:pt x="5531" y="0"/>
                </a:moveTo>
                <a:lnTo>
                  <a:pt x="2474" y="785"/>
                </a:lnTo>
                <a:lnTo>
                  <a:pt x="2977" y="790"/>
                </a:lnTo>
                <a:lnTo>
                  <a:pt x="0" y="155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9160" y="215280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453384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2760" y="340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0520" y="35053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69560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33840" y="1714680"/>
            <a:ext cx="133560" cy="9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58080" y="1676520"/>
            <a:ext cx="7596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6960" y="295272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3562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886040" y="3962520"/>
            <a:ext cx="285840" cy="20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877240" y="3029040"/>
            <a:ext cx="381240" cy="3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8896320" y="3543480"/>
            <a:ext cx="34308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8877240" y="3867120"/>
            <a:ext cx="3621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86480" y="5067360"/>
            <a:ext cx="152280" cy="26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67320" y="508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095880" y="5048280"/>
            <a:ext cx="171720" cy="24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19480" y="4133880"/>
            <a:ext cx="1162440" cy="762480"/>
          </a:xfrm>
          <a:custGeom>
            <a:avLst/>
            <a:gdLst/>
            <a:ahLst/>
            <a:rect l="0" t="0" r="r" b="b"/>
            <a:pathLst>
              <a:path fill="none" w="3229" h="2118">
                <a:moveTo>
                  <a:pt x="0" y="2118"/>
                </a:moveTo>
                <a:lnTo>
                  <a:pt x="0" y="2118"/>
                </a:lnTo>
                <a:cubicBezTo>
                  <a:pt x="567" y="2118"/>
                  <a:pt x="1124" y="2020"/>
                  <a:pt x="1615" y="1834"/>
                </a:cubicBezTo>
                <a:cubicBezTo>
                  <a:pt x="2105" y="1648"/>
                  <a:pt x="2513" y="1381"/>
                  <a:pt x="2796" y="1059"/>
                </a:cubicBezTo>
                <a:cubicBezTo>
                  <a:pt x="3080" y="737"/>
                  <a:pt x="3229" y="372"/>
                  <a:pt x="322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93800" y="4632480"/>
            <a:ext cx="979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T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17600" y="23083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956800" y="234648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60680" y="1527120"/>
            <a:ext cx="1577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Resource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availabl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ual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7680" y="2038320"/>
            <a:ext cx="1924560" cy="1295640"/>
          </a:xfrm>
          <a:custGeom>
            <a:avLst/>
            <a:gdLst/>
            <a:ahLst/>
            <a:rect l="0" t="0" r="r" b="b"/>
            <a:pathLst>
              <a:path fill="none" w="5346" h="3599">
                <a:moveTo>
                  <a:pt x="5346" y="3599"/>
                </a:moveTo>
                <a:lnTo>
                  <a:pt x="5346" y="3599"/>
                </a:lnTo>
                <a:lnTo>
                  <a:pt x="5346" y="3599"/>
                </a:lnTo>
                <a:cubicBezTo>
                  <a:pt x="5346" y="2967"/>
                  <a:pt x="5099" y="2347"/>
                  <a:pt x="4630" y="1799"/>
                </a:cubicBezTo>
                <a:cubicBezTo>
                  <a:pt x="4161" y="1252"/>
                  <a:pt x="3486" y="798"/>
                  <a:pt x="2673" y="482"/>
                </a:cubicBezTo>
                <a:cubicBezTo>
                  <a:pt x="1860" y="166"/>
                  <a:pt x="93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80320" y="1736640"/>
            <a:ext cx="2228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path is calculated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s the resourc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the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2209680"/>
            <a:ext cx="2153160" cy="438480"/>
          </a:xfrm>
          <a:custGeom>
            <a:avLst/>
            <a:gdLst/>
            <a:ahLst/>
            <a:rect l="0" t="0" r="r" b="b"/>
            <a:pathLst>
              <a:path fill="none" w="5981" h="1218">
                <a:moveTo>
                  <a:pt x="5981" y="0"/>
                </a:moveTo>
                <a:lnTo>
                  <a:pt x="5981" y="0"/>
                </a:lnTo>
                <a:cubicBezTo>
                  <a:pt x="4931" y="0"/>
                  <a:pt x="3900" y="56"/>
                  <a:pt x="2990" y="163"/>
                </a:cubicBezTo>
                <a:cubicBezTo>
                  <a:pt x="2081" y="270"/>
                  <a:pt x="1326" y="424"/>
                  <a:pt x="801" y="609"/>
                </a:cubicBezTo>
                <a:cubicBezTo>
                  <a:pt x="276" y="794"/>
                  <a:pt x="0" y="1004"/>
                  <a:pt x="0" y="1218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2362320"/>
            <a:ext cx="572040" cy="457560"/>
          </a:xfrm>
          <a:custGeom>
            <a:avLst/>
            <a:gdLst/>
            <a:ahLst/>
            <a:rect l="0" t="0" r="r" b="b"/>
            <a:pathLst>
              <a:path fill="none" w="1589" h="1271">
                <a:moveTo>
                  <a:pt x="1589" y="0"/>
                </a:moveTo>
                <a:lnTo>
                  <a:pt x="1589" y="0"/>
                </a:lnTo>
                <a:cubicBezTo>
                  <a:pt x="1310" y="0"/>
                  <a:pt x="1036" y="59"/>
                  <a:pt x="794" y="170"/>
                </a:cubicBezTo>
                <a:cubicBezTo>
                  <a:pt x="553" y="282"/>
                  <a:pt x="352" y="442"/>
                  <a:pt x="213" y="636"/>
                </a:cubicBezTo>
                <a:cubicBezTo>
                  <a:pt x="73" y="829"/>
                  <a:pt x="0" y="1048"/>
                  <a:pt x="0" y="1271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Protocol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resources are advertised to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event causes calculation of QoS route (demand dri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SVP messages containing resour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is computed as needed by routers o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fication of actual reservation of resources to assure that path computation was correct and “store 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is removed when trigger events disappear (RSVP PATH state times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Resource 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68560" y="133344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OSPF LSAs for advertising router link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 Load Model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ertise Largest chunk of reservable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ertise Largest buffer/burst re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service models/parameters can/should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information for QoS routing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35000" y="285840"/>
            <a:ext cx="8755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Route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68560" y="1238400"/>
            <a:ext cx="8782200" cy="431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Dijkstra calculation triggered by receipt of new RSVP PATH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triggers such as different signaling protocols and flow threshold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uses Group Membership LSAs for memb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oS route computed for Source-&gt;Destinatio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affic for Source-&gt;Destination pair is routed on sam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Links with adequate resources are used for Dij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y to best-effort path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68560" y="380880"/>
            <a:ext cx="87552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col Overview:  Confirmation/Re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30400" y="158112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on RESV triggers Opaque LSA indicating reservation on link for Source-&gt;Destinatio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putation could occur on RESV if resources different from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s may be pinned (e.g. not changed by new links or more resources becoming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esource LSAs (reserved and available) and topology changes cause recalculation favoring links currently reserved fo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68560" y="190440"/>
            <a:ext cx="87552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6040" y="20304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2760" y="134604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58880" y="29638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125880" y="29448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83080" y="3954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219320" y="38419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238560" y="4889520"/>
            <a:ext cx="415800" cy="42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4133880" y="4870440"/>
            <a:ext cx="415800" cy="42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504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66960" y="25146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51460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7188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09760" y="34290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43480" y="34290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90840" y="44197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0680" y="4419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94120" y="139392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9000" y="428940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700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84480" y="52801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cv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22920" y="1317600"/>
            <a:ext cx="5273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RCVRs 1,2,&amp;3 have joined group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RSVP PATH Message sent  from sender to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R1 Computes QoS Path to  RCVRs 1,2,&amp;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 Link L1 does not have adequate resources for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ed on RSVP T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Tree is computed using L2, L3, and 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rocess is repeated for R2, R3, and R4 as PATH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vels down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 Rcvrs send RESV message back toward send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rving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 Routers send Resource reserved advertis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cating the resources used for the Source, Group 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 If significant resources are used, routers send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 Available 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94120" y="21556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7972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03600" y="3222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0800" y="421308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7972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46400" y="25369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60600" y="299412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79920" y="360360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ferred Customer</cp:lastModifiedBy>
  <cp:revision>0</cp:revision>
  <dc:subject/>
  <dc:title>QOSPF and QoSR</dc:title>
</cp:coreProperties>
</file>